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8005-D407-46E0-9A81-CC2D07716529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E162-7A55-4FC2-BC72-D17F3C2C200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B802-2C65-4021-A5EF-51D19627A56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pache.org/licenses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Working with your archive organiz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8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velop plan to expand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71320" y="2133360"/>
            <a:ext cx="118616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termine audience and track data usage and impac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Journal articles, gray literature, popular media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s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Research, education, policy-making, planning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re data users served with expec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iplines and sub-disciplines of journals where data are c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Communities (scientists, educators, students, decision-maker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ational and international (languag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gaps a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Unmet expectations for data uses or user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velop plan to address opportunities for expan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Promotional activities or event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Discovery opportunities (additional catalogs, search engine optimization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products (subsets, maps, integrated data, translations, lesson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New data services (simple analytical tools, advanced tools, visualization capabilities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dentify criteria to measure success for each element of plan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pansion of user communi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1680" y="232416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xecute plan for expanding user communit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mpare results of each expansion activity with success criteri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rrect or improve unsuccessful expansion activiti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 data usage and impact over time to identify improvemen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form gap analysis to identify opportunities for expans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evelop plans for continued expansion based on gap analysi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eriodically repeat user community expansion proces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pache Software Foundation: Licens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apache.org/licenses/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Working with your archive organization- overview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lecting an archive for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paring scientific data for archiv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ubmitting scientific data to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panding your user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dentify data services need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133360"/>
            <a:ext cx="11861640" cy="67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serve potential users of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ould users of the archive be interested in the data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visitors to the archive find the data in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he archive disseminate similar kinds of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provide a dedicated web page or services for data us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users of these data receive support from the archiv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just refer questions to me or will they maintain the answers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usag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know whether and how the data are us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70416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ill the archive manage the data over time and provide access in the future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rchiving scientific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enter or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ipline-specific or multidisciplin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sustainabi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stitutional reposito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rganizational affili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stitutional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ublisher’s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associated with public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munity or commercial interes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n an archive be trust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58720" y="2133720"/>
            <a:ext cx="120398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management capabiliti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ack record for data management and ongoing dissemin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fessions and disciplines in which staff have experti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Organization and infrastructur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levance of organizational mission and strateg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Quality assurance (QA) and quality control (QC) policies &amp; proced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rrent hardware and softwar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commendations, reviews, and assessmen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ommendations from data producers and data us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xternal or interna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s compliance assess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pen Archival Information System (OAIS) Reference Model, Trustworthy Repository Audit and Certification: Criteria and Checklist (TRAC), ISO 16363  (Audit and Certification of Trustworthy Digital Repositories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tablish relationship with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atibility of data and mutually beneficial opportun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community served and anticipated future communiti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collec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rent and planned data products and services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epare to cooperate on acquisition and develop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portfolio of collect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archive’s data products and servi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dentify needs for developing data into products or servi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relevant policies of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 intellectual property rights (and restrictions, if applicable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ew submission information package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operative planning with the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txBody>
          <a:bodyPr lIns="50760" rIns="50760" tIns="50760" bIns="50760" anchor="t">
            <a:normAutofit fontScale="97000"/>
          </a:bodyPr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lec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art of existing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stablish new collectio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Are multiple data products or services planned?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semination Planning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omotion activities and ev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Based on intended audience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covery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atalog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Search Engine Optimization (SEO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ssemination information package (DIP) cont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product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ata services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ser support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Reference services (Interactive and asynchronous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Frequently Asked Questions (FAQ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68976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Long-term preservation and acces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1206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Continuous review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pare Submission Information Pack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ntify data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ather and package relevant information with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ent standard to be us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y descrip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scriptions of instruments and meas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r guid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to relevant publ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ion for project team, organizations, and sponso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ights declarations (archive rights and user right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ckaging forma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ubmitting scientific data for archiv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58720" y="22093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sure that the data are complet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y errors have been correc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crepancies between copies have been resol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s maintained by team members have been consolidat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pdates to ancillary information have been review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7113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mmendations for improvement have been followed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ify that submission information package meets specific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llow procedure for data submiss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sk archive staff if you have ques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04:00Z</dcterms:modified>
  <cp:revision>111</cp:revision>
  <dc:subject/>
  <dc:title>ESIP Federation 101</dc:title>
</cp:coreProperties>
</file>